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665-2013-4CB1-A92D-A1FD4AA4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FA6-A464-4CB0-99B4-FDBB1C3E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D3A-5787-4B35-946B-CED6EF36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B799-21C8-421E-A167-751607E2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1F6-5AE3-4EC5-B8F3-1A900085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FB6-A41B-417F-A439-E0582355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7BE3-2AE0-4C19-AA30-2B15DF58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A28-7543-40F9-9015-81536BED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2C2E-4ED0-4BE0-BCDD-74A30735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873-3057-46C4-9CAB-3364FC90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9023-5730-4DA8-9870-7294A665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B2C8-68E1-4E4A-A517-A84BFDC0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D542-9D06-4DFA-B7D6-B8F3D621E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7636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nviro-school power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y Jordan and A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00360" y="4149720"/>
            <a:ext cx="2714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2:04:22Z</dcterms:created>
  <dc:creator>Ministry of Education</dc:creator>
  <dc:description/>
  <dc:language>en-US</dc:language>
  <cp:lastModifiedBy>Ministry of Education</cp:lastModifiedBy>
  <dcterms:modified xsi:type="dcterms:W3CDTF">2009-03-17T22:16:30Z</dcterms:modified>
  <cp:revision>2</cp:revision>
  <dc:subject/>
  <dc:title>Slide 1</dc:title>
</cp:coreProperties>
</file>